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DB87-FBAD-4789-B2F4-2D16A2639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803-A442-468E-888A-E030C5CBD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6BA6-18A1-438D-9CCD-E4E90045F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EF46-C5BD-4289-BD02-E1575F40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89B-30B1-4867-A36F-12E65038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CB7B-A4BB-4370-87E5-0A4B61A0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DBD-AC2D-4107-BDC6-A45A5C2C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7E8-AB82-4DE5-9003-F978C745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7CE-BEA9-41D2-A953-8AD5F46F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454-BB1A-406D-B26E-556207BC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BF7-E719-46C0-8BFF-823392D7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D18-D8CA-4313-B326-1E220AA4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6F0-43FE-4A75-B29F-C2AF0D54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934-E10E-473E-ACCA-E4937A65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49B-0A62-4B79-80AB-E6C5973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BDB-39EB-4333-9967-CB2B564E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4E3-767E-4A89-A46A-A3B6BDCF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2F3-EE17-45A2-BD54-8FEF55E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E8B-0EE9-42C6-A0C0-7085887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4580-4404-41F5-8304-9CF420B6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16524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08800" y="0"/>
            <a:ext cx="849240" cy="60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513640" y="12384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 and CHA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0280" y="5424480"/>
            <a:ext cx="18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a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52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2680" y="5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85640" y="-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08360" y="235728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2577960"/>
            <a:ext cx="1676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000" y="23572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mai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1040" y="261792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390852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13064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96960" y="390852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1040" y="4170240"/>
            <a:ext cx="23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2960" y="390852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2960" y="413064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576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390852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9440" y="413064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1680" y="390852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188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2960" y="235728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577960"/>
            <a:ext cx="1047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4120" y="235728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1576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9440" y="235728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9440" y="2577960"/>
            <a:ext cx="1047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2560" y="2397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0900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84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30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84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66680" y="3020760"/>
            <a:ext cx="843120" cy="1332000"/>
            <a:chOff x="2866680" y="3020760"/>
            <a:chExt cx="843120" cy="1332000"/>
          </a:xfrm>
        </p:grpSpPr>
        <p:sp>
          <p:nvSpPr>
            <p:cNvPr id="223" name=""/>
            <p:cNvSpPr/>
            <p:nvPr/>
          </p:nvSpPr>
          <p:spPr>
            <a:xfrm flipH="1" flipV="1">
              <a:off x="3287520" y="3020760"/>
              <a:ext cx="42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880" y="3021120"/>
              <a:ext cx="14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866680" y="434916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3080" y="3022560"/>
            <a:ext cx="839880" cy="1341360"/>
            <a:chOff x="5383080" y="3022560"/>
            <a:chExt cx="839880" cy="1341360"/>
          </a:xfrm>
        </p:grpSpPr>
        <p:sp>
          <p:nvSpPr>
            <p:cNvPr id="227" name=""/>
            <p:cNvSpPr/>
            <p:nvPr/>
          </p:nvSpPr>
          <p:spPr>
            <a:xfrm flipV="1">
              <a:off x="5383080" y="3033720"/>
              <a:ext cx="41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03920" y="3022560"/>
              <a:ext cx="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803920" y="4362120"/>
              <a:ext cx="41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2520" y="2193840"/>
            <a:ext cx="1364040" cy="457200"/>
            <a:chOff x="3782520" y="2193840"/>
            <a:chExt cx="1364040" cy="457200"/>
          </a:xfrm>
        </p:grpSpPr>
        <p:sp>
          <p:nvSpPr>
            <p:cNvPr id="231" name=""/>
            <p:cNvSpPr/>
            <p:nvPr/>
          </p:nvSpPr>
          <p:spPr>
            <a:xfrm>
              <a:off x="3782520" y="23162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4920" y="2193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260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6876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864800" y="23162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8960" y="2290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664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452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760" y="38401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K2 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- ‘reversed star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xed schema trans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88040" y="1514520"/>
            <a:ext cx="1926360" cy="2322000"/>
            <a:chOff x="1688040" y="1514520"/>
            <a:chExt cx="1926360" cy="2322000"/>
          </a:xfrm>
        </p:grpSpPr>
        <p:grpSp>
          <p:nvGrpSpPr>
            <p:cNvPr id="243" name=""/>
            <p:cNvGrpSpPr/>
            <p:nvPr/>
          </p:nvGrpSpPr>
          <p:grpSpPr>
            <a:xfrm>
              <a:off x="2361960" y="2019240"/>
              <a:ext cx="1252440" cy="1817280"/>
              <a:chOff x="2361960" y="2019240"/>
              <a:chExt cx="1252440" cy="18172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61960" y="2031840"/>
                <a:ext cx="311400" cy="387360"/>
                <a:chOff x="2361960" y="2031840"/>
                <a:chExt cx="311400" cy="38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61960" y="20318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68080" y="21398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90040" y="2019240"/>
                <a:ext cx="311400" cy="387360"/>
                <a:chOff x="3290040" y="2019240"/>
                <a:chExt cx="311400" cy="3873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290040" y="20192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6160" y="21272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303000" y="2610000"/>
                <a:ext cx="311400" cy="387360"/>
                <a:chOff x="3303000" y="2610000"/>
                <a:chExt cx="311400" cy="387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303000" y="261000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09120" y="27180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68080" y="2959560"/>
                <a:ext cx="311400" cy="387360"/>
                <a:chOff x="2368080" y="2959560"/>
                <a:chExt cx="311400" cy="387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68080" y="2959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74200" y="3067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77440" y="3436560"/>
                <a:ext cx="311400" cy="387360"/>
                <a:chOff x="3277440" y="3436560"/>
                <a:chExt cx="311400" cy="387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277440" y="3436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3560" y="3544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679840" y="218412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12480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18680" y="2286000"/>
                <a:ext cx="0" cy="5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24800" y="2813400"/>
                <a:ext cx="1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2324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45080" y="2330640"/>
                <a:ext cx="0" cy="83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673000" y="3162960"/>
                <a:ext cx="1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368080" y="3449160"/>
                <a:ext cx="311400" cy="387360"/>
                <a:chOff x="2368080" y="3449160"/>
                <a:chExt cx="311400" cy="387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368080" y="34491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74200" y="35571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2679840" y="322020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0080" y="32202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85960" y="3665160"/>
                <a:ext cx="5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88040" y="151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40160" y="4041720"/>
            <a:ext cx="2468160" cy="2536920"/>
            <a:chOff x="1640160" y="4041720"/>
            <a:chExt cx="2468160" cy="2536920"/>
          </a:xfrm>
        </p:grpSpPr>
        <p:grpSp>
          <p:nvGrpSpPr>
            <p:cNvPr id="274" name=""/>
            <p:cNvGrpSpPr/>
            <p:nvPr/>
          </p:nvGrpSpPr>
          <p:grpSpPr>
            <a:xfrm>
              <a:off x="2031840" y="4559040"/>
              <a:ext cx="2076480" cy="2019600"/>
              <a:chOff x="2031840" y="4559040"/>
              <a:chExt cx="2076480" cy="2019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057400" y="4584600"/>
                <a:ext cx="311040" cy="388800"/>
                <a:chOff x="2057400" y="4584600"/>
                <a:chExt cx="311040" cy="38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057400" y="4584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520" y="4692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044800" y="5943600"/>
                <a:ext cx="311040" cy="388800"/>
                <a:chOff x="2044800" y="5943600"/>
                <a:chExt cx="311040" cy="388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44800" y="5943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0920" y="6051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933640" y="5930640"/>
                <a:ext cx="311040" cy="389160"/>
                <a:chOff x="2933640" y="5930640"/>
                <a:chExt cx="311040" cy="3891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933640" y="593064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9760" y="60390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31840" y="5244840"/>
                <a:ext cx="311400" cy="389160"/>
                <a:chOff x="2031840" y="5244840"/>
                <a:chExt cx="311400" cy="389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31840" y="52448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37960" y="53532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08080" y="4559040"/>
                <a:ext cx="311400" cy="389160"/>
                <a:chOff x="2908080" y="4559040"/>
                <a:chExt cx="311400" cy="3891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08080" y="45590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14200" y="46674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95480" y="5257800"/>
                <a:ext cx="311040" cy="388800"/>
                <a:chOff x="2895480" y="5257800"/>
                <a:chExt cx="31104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895480" y="5257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901600" y="5366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59120" y="5968800"/>
                <a:ext cx="311040" cy="389160"/>
                <a:chOff x="3759120" y="5968800"/>
                <a:chExt cx="311040" cy="389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9120" y="596880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65240" y="6077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97280" y="4572000"/>
                <a:ext cx="311040" cy="388800"/>
                <a:chOff x="3797280" y="4572000"/>
                <a:chExt cx="31104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97280" y="45720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03400" y="4680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2349360" y="5448240"/>
                <a:ext cx="5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74920" y="480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4480" y="49910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49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3000" y="5448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17920" y="4825800"/>
                <a:ext cx="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04960" y="483876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63760" y="6134040"/>
                <a:ext cx="49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41240" y="62737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9000" y="628632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58920" y="6578640"/>
                <a:ext cx="12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71520" y="63496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640160" y="40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00680" y="2403360"/>
            <a:ext cx="1346040" cy="949320"/>
            <a:chOff x="4000680" y="2403360"/>
            <a:chExt cx="1346040" cy="949320"/>
          </a:xfrm>
        </p:grpSpPr>
        <p:sp>
          <p:nvSpPr>
            <p:cNvPr id="313" name=""/>
            <p:cNvSpPr/>
            <p:nvPr/>
          </p:nvSpPr>
          <p:spPr>
            <a:xfrm>
              <a:off x="4694040" y="240336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0680" y="2869920"/>
              <a:ext cx="13460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67080" y="4029120"/>
            <a:ext cx="1257480" cy="1139760"/>
            <a:chOff x="4267080" y="4029120"/>
            <a:chExt cx="1257480" cy="1139760"/>
          </a:xfrm>
        </p:grpSpPr>
        <p:sp>
          <p:nvSpPr>
            <p:cNvPr id="316" name=""/>
            <p:cNvSpPr/>
            <p:nvPr/>
          </p:nvSpPr>
          <p:spPr>
            <a:xfrm>
              <a:off x="4567320" y="402912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267080" y="4241520"/>
              <a:ext cx="125748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26080" y="2212920"/>
            <a:ext cx="1601640" cy="2481120"/>
            <a:chOff x="5626080" y="2212920"/>
            <a:chExt cx="160164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5626080" y="3098520"/>
              <a:ext cx="1601640" cy="1595520"/>
              <a:chOff x="5626080" y="3098520"/>
              <a:chExt cx="1601640" cy="1595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254640" y="3669840"/>
                <a:ext cx="312840" cy="389160"/>
                <a:chOff x="6254640" y="3669840"/>
                <a:chExt cx="312840" cy="389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54640" y="3669840"/>
                  <a:ext cx="3128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60760" y="377820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61120" y="4306680"/>
                <a:ext cx="312480" cy="387360"/>
                <a:chOff x="6261120" y="4306680"/>
                <a:chExt cx="312480" cy="387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61120" y="4306680"/>
                  <a:ext cx="31248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7240" y="4414680"/>
                  <a:ext cx="30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916680" y="3682800"/>
                <a:ext cx="311040" cy="388800"/>
                <a:chOff x="6916680" y="3682800"/>
                <a:chExt cx="31104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9166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28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42040" y="3098520"/>
                <a:ext cx="312840" cy="387360"/>
                <a:chOff x="6242040" y="3098520"/>
                <a:chExt cx="312840" cy="3873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040" y="3098520"/>
                  <a:ext cx="31284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48160" y="320652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626080" y="3682800"/>
                <a:ext cx="311040" cy="388800"/>
                <a:chOff x="5626080" y="3682800"/>
                <a:chExt cx="311040" cy="388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6260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322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4360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9268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00800" y="34920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06920" y="406512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83360" y="221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princi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 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atabase met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, dms, cardin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late configuration into DD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configuration fi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,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, reference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: exported, im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subs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able nam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o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s, Attributes and Filt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4122720"/>
            <a:ext cx="1212840" cy="1244520"/>
            <a:chOff x="762120" y="4122720"/>
            <a:chExt cx="1212840" cy="1244520"/>
          </a:xfrm>
        </p:grpSpPr>
        <p:sp>
          <p:nvSpPr>
            <p:cNvPr id="348" name=""/>
            <p:cNvSpPr/>
            <p:nvPr/>
          </p:nvSpPr>
          <p:spPr>
            <a:xfrm>
              <a:off x="762120" y="412272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3560" y="4313160"/>
              <a:ext cx="120996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90560" y="28353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69920" y="3201840"/>
            <a:ext cx="549360" cy="328680"/>
            <a:chOff x="1069920" y="3201840"/>
            <a:chExt cx="549360" cy="328680"/>
          </a:xfrm>
        </p:grpSpPr>
        <p:sp>
          <p:nvSpPr>
            <p:cNvPr id="352" name=""/>
            <p:cNvSpPr/>
            <p:nvPr/>
          </p:nvSpPr>
          <p:spPr>
            <a:xfrm>
              <a:off x="1276200" y="3311640"/>
              <a:ext cx="13680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82840" y="3201840"/>
              <a:ext cx="1364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9920" y="3201840"/>
              <a:ext cx="1382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82840" y="3476520"/>
              <a:ext cx="1364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9920" y="3476520"/>
              <a:ext cx="1382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20816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41300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0816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1440" y="3260880"/>
              <a:ext cx="341280" cy="24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86080" y="242424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953720" y="2362320"/>
            <a:ext cx="1910160" cy="828720"/>
            <a:chOff x="1953720" y="2362320"/>
            <a:chExt cx="1910160" cy="828720"/>
          </a:xfrm>
        </p:grpSpPr>
        <p:sp>
          <p:nvSpPr>
            <p:cNvPr id="364" name=""/>
            <p:cNvSpPr/>
            <p:nvPr/>
          </p:nvSpPr>
          <p:spPr>
            <a:xfrm>
              <a:off x="2430360" y="236232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953720" y="289440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38440" y="289440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55600" y="3146400"/>
            <a:ext cx="1726920" cy="457200"/>
            <a:chOff x="2055600" y="3146400"/>
            <a:chExt cx="1726920" cy="457200"/>
          </a:xfrm>
        </p:grpSpPr>
        <p:sp>
          <p:nvSpPr>
            <p:cNvPr id="368" name=""/>
            <p:cNvSpPr/>
            <p:nvPr/>
          </p:nvSpPr>
          <p:spPr>
            <a:xfrm>
              <a:off x="2441520" y="31464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17920" y="33732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055600" y="3403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136240" y="3606840"/>
            <a:ext cx="1718280" cy="1158840"/>
            <a:chOff x="2136240" y="3606840"/>
            <a:chExt cx="1718280" cy="1158840"/>
          </a:xfrm>
        </p:grpSpPr>
        <p:sp>
          <p:nvSpPr>
            <p:cNvPr id="372" name=""/>
            <p:cNvSpPr/>
            <p:nvPr/>
          </p:nvSpPr>
          <p:spPr>
            <a:xfrm>
              <a:off x="2450880" y="393228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49600" y="3606840"/>
              <a:ext cx="3049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6240" y="4521240"/>
              <a:ext cx="1731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16080" y="4054320"/>
            <a:ext cx="1808280" cy="1120680"/>
            <a:chOff x="2116080" y="4054320"/>
            <a:chExt cx="1808280" cy="1120680"/>
          </a:xfrm>
        </p:grpSpPr>
        <p:sp>
          <p:nvSpPr>
            <p:cNvPr id="376" name=""/>
            <p:cNvSpPr/>
            <p:nvPr/>
          </p:nvSpPr>
          <p:spPr>
            <a:xfrm>
              <a:off x="2450880" y="471780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16080" y="49575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29080" y="4054320"/>
              <a:ext cx="39528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539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4841" t="9693" r="21138" b="2030"/>
          <a:stretch/>
        </p:blipFill>
        <p:spPr>
          <a:xfrm>
            <a:off x="592200" y="1779480"/>
            <a:ext cx="3763800" cy="37576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609480" y="1803240"/>
            <a:ext cx="7025400" cy="1689120"/>
            <a:chOff x="609480" y="1803240"/>
            <a:chExt cx="7025400" cy="1689120"/>
          </a:xfrm>
        </p:grpSpPr>
        <p:sp>
          <p:nvSpPr>
            <p:cNvPr id="383" name=""/>
            <p:cNvSpPr/>
            <p:nvPr/>
          </p:nvSpPr>
          <p:spPr>
            <a:xfrm>
              <a:off x="609480" y="1803240"/>
              <a:ext cx="3886200" cy="16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9720" y="227664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640" y="4381560"/>
            <a:ext cx="6987240" cy="1206360"/>
            <a:chOff x="647640" y="4381560"/>
            <a:chExt cx="6987240" cy="1206360"/>
          </a:xfrm>
        </p:grpSpPr>
        <p:sp>
          <p:nvSpPr>
            <p:cNvPr id="386" name=""/>
            <p:cNvSpPr/>
            <p:nvPr/>
          </p:nvSpPr>
          <p:spPr>
            <a:xfrm>
              <a:off x="647640" y="4381560"/>
              <a:ext cx="3886200" cy="120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9720" y="470232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440" y="3619440"/>
            <a:ext cx="6786720" cy="622440"/>
            <a:chOff x="622440" y="3619440"/>
            <a:chExt cx="6786720" cy="622440"/>
          </a:xfrm>
        </p:grpSpPr>
        <p:sp>
          <p:nvSpPr>
            <p:cNvPr id="389" name=""/>
            <p:cNvSpPr/>
            <p:nvPr/>
          </p:nvSpPr>
          <p:spPr>
            <a:xfrm>
              <a:off x="622440" y="3619440"/>
              <a:ext cx="3924000" cy="62244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3640" y="3635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2900"/>
                  </a:solidFill>
                  <a:latin typeface="Times New Roman"/>
                </a:rPr>
                <a:t>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311040"/>
            <a:ext cx="6931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819520"/>
            <a:ext cx="1904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5680" y="4114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403848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7080" y="30052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 = uniprot_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297180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 = uniprot_ac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0000" y="48769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uniprot_ac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88024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uniprot_ac IN (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374400"/>
            <a:ext cx="69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8954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28195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6400" y="4114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19760" y="396252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60680" y="3005280"/>
            <a:ext cx="184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=chr_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63680" y="2971800"/>
            <a:ext cx="18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=chr_name (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 (&gt;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 (&lt;=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22520" y="502920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chr_name, chr_start, chr_end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60325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(chr_name = 1 AND chr_start &gt;= 100 AND chr_end &lt; = 10000) OR (chr_name = 2 AND chr_start &gt;= 50 AND chr_end &lt; = 56780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chical representation of fliter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ables and Impor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relational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 data - defines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terfaces ‘advanced search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wiz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d database views (datas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498600" y="34005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84240" y="3876840"/>
            <a:ext cx="1364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0520" y="3767040"/>
            <a:ext cx="13680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960" y="3767040"/>
            <a:ext cx="13788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90520" y="4041720"/>
            <a:ext cx="1368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4041720"/>
            <a:ext cx="13788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91584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068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12068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1584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441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453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2970" t="3044" r="0" b="704"/>
          <a:stretch/>
        </p:blipFill>
        <p:spPr>
          <a:xfrm>
            <a:off x="736560" y="1055520"/>
            <a:ext cx="7881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naming con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ïve config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eta tables                meta_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                 dataset__content__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ain                       __main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imension              __d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Key                          _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91960" y="1015920"/>
            <a:ext cx="8610840" cy="5364360"/>
            <a:chOff x="291960" y="1015920"/>
            <a:chExt cx="8610840" cy="5364360"/>
          </a:xfrm>
        </p:grpSpPr>
        <p:sp>
          <p:nvSpPr>
            <p:cNvPr id="465" name=""/>
            <p:cNvSpPr/>
            <p:nvPr/>
          </p:nvSpPr>
          <p:spPr>
            <a:xfrm>
              <a:off x="7746840" y="10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tri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4295880"/>
              <a:ext cx="1523880" cy="11728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5400" y="4295880"/>
              <a:ext cx="99036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8360" y="4295880"/>
              <a:ext cx="99072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7856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sem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88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niPr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4556160"/>
              <a:ext cx="990720" cy="717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5200" y="4881600"/>
              <a:ext cx="99036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2000" y="2341440"/>
              <a:ext cx="426708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02000" y="2602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9400" y="23414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52080" y="2668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ioMart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280" y="23414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98560" y="23414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59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2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33880" y="1560600"/>
              <a:ext cx="1262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xpl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5000" y="1560600"/>
              <a:ext cx="1066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Sh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6080" y="17557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92560" y="1560600"/>
              <a:ext cx="9907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1960" y="3710160"/>
              <a:ext cx="8610840" cy="26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960" y="1365120"/>
              <a:ext cx="8610840" cy="195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73400" y="4686480"/>
              <a:ext cx="990360" cy="415800"/>
            </a:xfrm>
            <a:prstGeom prst="rightArrow">
              <a:avLst>
                <a:gd name="adj1" fmla="val 50000"/>
                <a:gd name="adj2" fmla="val 595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0760" y="507672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ch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4100400"/>
              <a:ext cx="115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5533920"/>
              <a:ext cx="6858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41004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d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2200" y="527364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3080" y="331956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4160" y="33606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8880" y="4100400"/>
              <a:ext cx="3276720" cy="175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9720" y="390384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ublic data (local or remo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02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Regist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4720" y="3848040"/>
            <a:ext cx="1600200" cy="2095560"/>
            <a:chOff x="774720" y="3848040"/>
            <a:chExt cx="1600200" cy="2095560"/>
          </a:xfrm>
        </p:grpSpPr>
        <p:sp>
          <p:nvSpPr>
            <p:cNvPr id="500" name=""/>
            <p:cNvSpPr/>
            <p:nvPr/>
          </p:nvSpPr>
          <p:spPr>
            <a:xfrm>
              <a:off x="1231920" y="38480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4720" y="4788000"/>
              <a:ext cx="1600200" cy="1155600"/>
              <a:chOff x="774720" y="4788000"/>
              <a:chExt cx="1600200" cy="11556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4720" y="478800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4120" y="513396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77760" y="1733400"/>
            <a:ext cx="1074960" cy="1708200"/>
            <a:chOff x="977760" y="1733400"/>
            <a:chExt cx="1074960" cy="1708200"/>
          </a:xfrm>
        </p:grpSpPr>
        <p:grpSp>
          <p:nvGrpSpPr>
            <p:cNvPr id="505" name=""/>
            <p:cNvGrpSpPr/>
            <p:nvPr/>
          </p:nvGrpSpPr>
          <p:grpSpPr>
            <a:xfrm>
              <a:off x="977760" y="1733400"/>
              <a:ext cx="1074960" cy="879480"/>
              <a:chOff x="977760" y="1733400"/>
              <a:chExt cx="1074960" cy="879480"/>
            </a:xfrm>
          </p:grpSpPr>
          <p:sp>
            <p:nvSpPr>
              <p:cNvPr id="506" name=""/>
              <p:cNvSpPr/>
              <p:nvPr/>
            </p:nvSpPr>
            <p:spPr>
              <a:xfrm>
                <a:off x="977760" y="17334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30400" y="18856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82680" y="20379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1447920" y="3060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769080" y="3860640"/>
            <a:ext cx="1600200" cy="2006640"/>
            <a:chOff x="6769080" y="3860640"/>
            <a:chExt cx="1600200" cy="2006640"/>
          </a:xfrm>
        </p:grpSpPr>
        <p:grpSp>
          <p:nvGrpSpPr>
            <p:cNvPr id="511" name=""/>
            <p:cNvGrpSpPr/>
            <p:nvPr/>
          </p:nvGrpSpPr>
          <p:grpSpPr>
            <a:xfrm>
              <a:off x="6769080" y="4711680"/>
              <a:ext cx="1600200" cy="1155600"/>
              <a:chOff x="6769080" y="4711680"/>
              <a:chExt cx="1600200" cy="1155600"/>
            </a:xfrm>
          </p:grpSpPr>
          <p:sp>
            <p:nvSpPr>
              <p:cNvPr id="512" name=""/>
              <p:cNvSpPr/>
              <p:nvPr/>
            </p:nvSpPr>
            <p:spPr>
              <a:xfrm>
                <a:off x="6769080" y="471168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08840" y="505764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365960" y="38606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781680" y="1720800"/>
            <a:ext cx="1074960" cy="1708200"/>
            <a:chOff x="6781680" y="1720800"/>
            <a:chExt cx="1074960" cy="1708200"/>
          </a:xfrm>
        </p:grpSpPr>
        <p:grpSp>
          <p:nvGrpSpPr>
            <p:cNvPr id="516" name=""/>
            <p:cNvGrpSpPr/>
            <p:nvPr/>
          </p:nvGrpSpPr>
          <p:grpSpPr>
            <a:xfrm>
              <a:off x="6781680" y="1720800"/>
              <a:ext cx="1074960" cy="879480"/>
              <a:chOff x="6781680" y="1720800"/>
              <a:chExt cx="1074960" cy="879480"/>
            </a:xfrm>
          </p:grpSpPr>
          <p:sp>
            <p:nvSpPr>
              <p:cNvPr id="517" name=""/>
              <p:cNvSpPr/>
              <p:nvPr/>
            </p:nvSpPr>
            <p:spPr>
              <a:xfrm>
                <a:off x="6781680" y="17208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4320" y="18730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6600" y="20253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flipV="1">
              <a:off x="75564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06440" y="1219320"/>
            <a:ext cx="8128080" cy="4317840"/>
            <a:chOff x="406440" y="1219320"/>
            <a:chExt cx="8128080" cy="4317840"/>
          </a:xfrm>
        </p:grpSpPr>
        <p:grpSp>
          <p:nvGrpSpPr>
            <p:cNvPr id="522" name=""/>
            <p:cNvGrpSpPr/>
            <p:nvPr/>
          </p:nvGrpSpPr>
          <p:grpSpPr>
            <a:xfrm>
              <a:off x="3898800" y="1720800"/>
              <a:ext cx="1074960" cy="1708200"/>
              <a:chOff x="3898800" y="1720800"/>
              <a:chExt cx="1074960" cy="17082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898800" y="1720800"/>
                <a:ext cx="1074960" cy="879480"/>
                <a:chOff x="3898800" y="1720800"/>
                <a:chExt cx="1074960" cy="87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98800" y="1720800"/>
                  <a:ext cx="77004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51440" y="1873080"/>
                  <a:ext cx="76968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3720" y="2025360"/>
                  <a:ext cx="770040" cy="574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V="1">
                <a:off x="453384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06560" y="3835440"/>
              <a:ext cx="3619440" cy="1701720"/>
              <a:chOff x="2806560" y="3835440"/>
              <a:chExt cx="3619440" cy="1701720"/>
            </a:xfrm>
          </p:grpSpPr>
          <p:sp>
            <p:nvSpPr>
              <p:cNvPr id="529" name=""/>
              <p:cNvSpPr/>
              <p:nvPr/>
            </p:nvSpPr>
            <p:spPr>
              <a:xfrm>
                <a:off x="4038480" y="4711680"/>
                <a:ext cx="1105200" cy="8254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81560" y="3835440"/>
                <a:ext cx="45720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0447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065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032520" y="1333440"/>
              <a:ext cx="2502000" cy="24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440" y="1219320"/>
              <a:ext cx="2502000" cy="24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03320" y="1657440"/>
            <a:ext cx="1074240" cy="1708200"/>
            <a:chOff x="1003320" y="1657440"/>
            <a:chExt cx="1074240" cy="1708200"/>
          </a:xfrm>
        </p:grpSpPr>
        <p:grpSp>
          <p:nvGrpSpPr>
            <p:cNvPr id="536" name=""/>
            <p:cNvGrpSpPr/>
            <p:nvPr/>
          </p:nvGrpSpPr>
          <p:grpSpPr>
            <a:xfrm>
              <a:off x="1003320" y="1657440"/>
              <a:ext cx="1074240" cy="879480"/>
              <a:chOff x="1003320" y="1657440"/>
              <a:chExt cx="1074240" cy="87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03320" y="165744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55600" y="180972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7880" y="196200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1473120" y="298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023240" y="1860480"/>
            <a:ext cx="1074240" cy="1708200"/>
            <a:chOff x="7023240" y="1860480"/>
            <a:chExt cx="1074240" cy="1708200"/>
          </a:xfrm>
        </p:grpSpPr>
        <p:grpSp>
          <p:nvGrpSpPr>
            <p:cNvPr id="542" name=""/>
            <p:cNvGrpSpPr/>
            <p:nvPr/>
          </p:nvGrpSpPr>
          <p:grpSpPr>
            <a:xfrm>
              <a:off x="7023240" y="1860480"/>
              <a:ext cx="1074240" cy="879480"/>
              <a:chOff x="7023240" y="1860480"/>
              <a:chExt cx="1074240" cy="87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7023240" y="18604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75520" y="201276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27800" y="216504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V="1">
              <a:off x="7493040" y="318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28800" y="1714680"/>
            <a:ext cx="3405240" cy="459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125800" y="1893960"/>
            <a:ext cx="5529240" cy="3397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query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38" r="0" b="62455"/>
          <a:stretch/>
        </p:blipFill>
        <p:spPr>
          <a:xfrm>
            <a:off x="380880" y="5727600"/>
            <a:ext cx="6488280" cy="8366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14397" t="10229" r="16089" b="3295"/>
          <a:stretch/>
        </p:blipFill>
        <p:spPr>
          <a:xfrm>
            <a:off x="546120" y="1752480"/>
            <a:ext cx="4170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97120" y="148428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19280" y="146700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65400" y="3162240"/>
            <a:ext cx="973080" cy="831960"/>
            <a:chOff x="1265400" y="3162240"/>
            <a:chExt cx="973080" cy="831960"/>
          </a:xfrm>
        </p:grpSpPr>
        <p:grpSp>
          <p:nvGrpSpPr>
            <p:cNvPr id="61" name=""/>
            <p:cNvGrpSpPr/>
            <p:nvPr/>
          </p:nvGrpSpPr>
          <p:grpSpPr>
            <a:xfrm>
              <a:off x="1265400" y="3162240"/>
              <a:ext cx="515880" cy="374760"/>
              <a:chOff x="1265400" y="3162240"/>
              <a:chExt cx="515880" cy="374760"/>
            </a:xfrm>
          </p:grpSpPr>
          <p:sp>
            <p:nvSpPr>
              <p:cNvPr id="62" name=""/>
              <p:cNvSpPr/>
              <p:nvPr/>
            </p:nvSpPr>
            <p:spPr>
              <a:xfrm>
                <a:off x="1265400" y="31622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65400" y="31622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417680" y="3314880"/>
              <a:ext cx="515880" cy="374400"/>
              <a:chOff x="1417680" y="3314880"/>
              <a:chExt cx="515880" cy="374400"/>
            </a:xfrm>
          </p:grpSpPr>
          <p:sp>
            <p:nvSpPr>
              <p:cNvPr id="65" name=""/>
              <p:cNvSpPr/>
              <p:nvPr/>
            </p:nvSpPr>
            <p:spPr>
              <a:xfrm>
                <a:off x="1417680" y="3314880"/>
                <a:ext cx="515880" cy="37440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7680" y="331488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569960" y="3467160"/>
              <a:ext cx="516240" cy="374760"/>
              <a:chOff x="1569960" y="3467160"/>
              <a:chExt cx="516240" cy="374760"/>
            </a:xfrm>
          </p:grpSpPr>
          <p:sp>
            <p:nvSpPr>
              <p:cNvPr id="68" name=""/>
              <p:cNvSpPr/>
              <p:nvPr/>
            </p:nvSpPr>
            <p:spPr>
              <a:xfrm>
                <a:off x="1569960" y="3467160"/>
                <a:ext cx="51624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69960" y="3467160"/>
                <a:ext cx="51624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22600" y="3619440"/>
              <a:ext cx="515880" cy="374760"/>
              <a:chOff x="1722600" y="3619440"/>
              <a:chExt cx="515880" cy="374760"/>
            </a:xfrm>
          </p:grpSpPr>
          <p:sp>
            <p:nvSpPr>
              <p:cNvPr id="71" name=""/>
              <p:cNvSpPr/>
              <p:nvPr/>
            </p:nvSpPr>
            <p:spPr>
              <a:xfrm>
                <a:off x="1722600" y="36194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22600" y="36194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427356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56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208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08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93880" y="344160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960" y="2022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6880" y="202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ird party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conductor (biomaR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vern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jav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ProServ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perl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523880" y="1627200"/>
            <a:ext cx="6266160" cy="4224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6880" y="1619280"/>
            <a:ext cx="552456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aver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 request and responses defined by Exportables and Importables and configured by Mart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2 released in febru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3 to be released  in ju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error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v 0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cale data federation (Hinx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prot Proteomes,MSD,Ensembl,Ve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access to a larg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embl, WormBase, ArrayEx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ng small datasets with publi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eur, INRA, Bayer, Unilever, Serono, Sanofi-Aventis, DevGen, etc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mediate 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mian Smedley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in London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Spooner (CSH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ne Stabenau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as Kahari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ig Melsopp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erina Tzouvara (Unipro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ul Donlon (Unile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ed into 1 - n tables with 0,1 level referencing (database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s,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s, Importables,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captured by dataset configuration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derived from source schema by fixed schema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s and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 ana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ataset -&gt;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attributes translated to unique filters and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/importable -&gt;PK/F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of datasets with unique names create a vir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 and ‘ad hoc’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base 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5040" y="3219480"/>
            <a:ext cx="1968480" cy="1289160"/>
            <a:chOff x="635040" y="3219480"/>
            <a:chExt cx="1968480" cy="1289160"/>
          </a:xfrm>
        </p:grpSpPr>
        <p:sp>
          <p:nvSpPr>
            <p:cNvPr id="88" name=""/>
            <p:cNvSpPr/>
            <p:nvPr/>
          </p:nvSpPr>
          <p:spPr>
            <a:xfrm>
              <a:off x="635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6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6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78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9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8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6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9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5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64040" y="3562200"/>
            <a:ext cx="253800" cy="2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1120" y="3143160"/>
            <a:ext cx="965160" cy="1613160"/>
            <a:chOff x="4191120" y="3143160"/>
            <a:chExt cx="965160" cy="1613160"/>
          </a:xfrm>
        </p:grpSpPr>
        <p:sp>
          <p:nvSpPr>
            <p:cNvPr id="102" name=""/>
            <p:cNvSpPr/>
            <p:nvPr/>
          </p:nvSpPr>
          <p:spPr>
            <a:xfrm>
              <a:off x="4191120" y="419724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7840" y="314316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5040" y="391788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02120" y="4476600"/>
              <a:ext cx="254160" cy="27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3295800"/>
            <a:ext cx="736560" cy="698400"/>
            <a:chOff x="4876920" y="3295800"/>
            <a:chExt cx="736560" cy="698400"/>
          </a:xfrm>
        </p:grpSpPr>
        <p:sp>
          <p:nvSpPr>
            <p:cNvPr id="107" name=""/>
            <p:cNvSpPr/>
            <p:nvPr/>
          </p:nvSpPr>
          <p:spPr>
            <a:xfrm>
              <a:off x="4876920" y="329580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371484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0" y="3244680"/>
            <a:ext cx="1346040" cy="1194120"/>
            <a:chOff x="6858000" y="3244680"/>
            <a:chExt cx="1346040" cy="1194120"/>
          </a:xfrm>
        </p:grpSpPr>
        <p:sp>
          <p:nvSpPr>
            <p:cNvPr id="110" name=""/>
            <p:cNvSpPr/>
            <p:nvPr/>
          </p:nvSpPr>
          <p:spPr>
            <a:xfrm>
              <a:off x="739152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3244680"/>
              <a:ext cx="25380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024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6720" y="4159080"/>
              <a:ext cx="25416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676680"/>
              <a:ext cx="25416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57600" y="2844720"/>
            <a:ext cx="2349360" cy="21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3280" y="3025800"/>
            <a:ext cx="1644840" cy="896760"/>
            <a:chOff x="3743280" y="3025800"/>
            <a:chExt cx="1644840" cy="896760"/>
          </a:xfrm>
        </p:grpSpPr>
        <p:sp>
          <p:nvSpPr>
            <p:cNvPr id="121" name=""/>
            <p:cNvSpPr/>
            <p:nvPr/>
          </p:nvSpPr>
          <p:spPr>
            <a:xfrm>
              <a:off x="3743280" y="3025800"/>
              <a:ext cx="1644840" cy="89676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3280" y="321948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1920" y="3298680"/>
              <a:ext cx="23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73200" y="1863720"/>
            <a:ext cx="3460680" cy="2654280"/>
            <a:chOff x="2473200" y="1863720"/>
            <a:chExt cx="3460680" cy="2654280"/>
          </a:xfrm>
        </p:grpSpPr>
        <p:grpSp>
          <p:nvGrpSpPr>
            <p:cNvPr id="125" name=""/>
            <p:cNvGrpSpPr/>
            <p:nvPr/>
          </p:nvGrpSpPr>
          <p:grpSpPr>
            <a:xfrm>
              <a:off x="3757320" y="2854080"/>
              <a:ext cx="1363680" cy="457200"/>
              <a:chOff x="3757320" y="2854080"/>
              <a:chExt cx="13636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757320" y="29764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49360" y="2854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3704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4320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73200" y="186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0" y="186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3960" y="406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560" y="404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449440" y="2044800"/>
            <a:ext cx="4228920" cy="2861640"/>
            <a:chOff x="2449440" y="2044800"/>
            <a:chExt cx="4228920" cy="2861640"/>
          </a:xfrm>
        </p:grpSpPr>
        <p:sp>
          <p:nvSpPr>
            <p:cNvPr id="136" name=""/>
            <p:cNvSpPr/>
            <p:nvPr/>
          </p:nvSpPr>
          <p:spPr>
            <a:xfrm>
              <a:off x="3743280" y="3025440"/>
              <a:ext cx="1644840" cy="89604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3280" y="3218400"/>
              <a:ext cx="1643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632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32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3280" y="2294640"/>
              <a:ext cx="43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944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632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5632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44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69680" y="3919680"/>
              <a:ext cx="27144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9680" y="2726280"/>
              <a:ext cx="27144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84160" y="2724120"/>
              <a:ext cx="27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4160" y="3919680"/>
              <a:ext cx="27180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624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2080" y="2280960"/>
              <a:ext cx="43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556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560" y="3299400"/>
              <a:ext cx="2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87600" y="1973160"/>
            <a:ext cx="3684240" cy="2504160"/>
            <a:chOff x="2487600" y="1973160"/>
            <a:chExt cx="3684240" cy="2504160"/>
          </a:xfrm>
        </p:grpSpPr>
        <p:grpSp>
          <p:nvGrpSpPr>
            <p:cNvPr id="156" name=""/>
            <p:cNvGrpSpPr/>
            <p:nvPr/>
          </p:nvGrpSpPr>
          <p:grpSpPr>
            <a:xfrm>
              <a:off x="3770280" y="2963880"/>
              <a:ext cx="1589040" cy="307080"/>
              <a:chOff x="3770280" y="2963880"/>
              <a:chExt cx="1589040" cy="30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7028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376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144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760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876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2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8360" y="41702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3960" y="4157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43280" y="3025800"/>
            <a:ext cx="1644840" cy="89676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3280" y="321948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632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6320" y="2219400"/>
            <a:ext cx="1020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944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9440" y="2219400"/>
            <a:ext cx="102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632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6320" y="4400640"/>
            <a:ext cx="102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944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00640"/>
            <a:ext cx="102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70400" y="391968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2725560"/>
            <a:ext cx="27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2412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4880" y="3919680"/>
            <a:ext cx="2714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920" y="3298680"/>
            <a:ext cx="23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44720" y="2854440"/>
            <a:ext cx="1363680" cy="457200"/>
            <a:chOff x="3744720" y="2854440"/>
            <a:chExt cx="1363680" cy="457200"/>
          </a:xfrm>
        </p:grpSpPr>
        <p:sp>
          <p:nvSpPr>
            <p:cNvPr id="186" name=""/>
            <p:cNvSpPr/>
            <p:nvPr/>
          </p:nvSpPr>
          <p:spPr>
            <a:xfrm>
              <a:off x="3744720" y="2976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6760" y="285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444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060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6204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2800" y="418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760" y="4170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Office 2004 Test Drive Arek Kasprzyk</cp:lastModifiedBy>
  <cp:lastPrinted>2004-04-24T07:05:00Z</cp:lastPrinted>
  <dcterms:modified xsi:type="dcterms:W3CDTF">2005-05-20T08:18:24Z</dcterms:modified>
  <cp:revision>1136</cp:revision>
  <dc:subject/>
  <dc:title>BioMart</dc:title>
</cp:coreProperties>
</file>